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BA58-D360-41C7-82B4-B76675309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07EE-DFBE-4999-8AF9-A03E12EDB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1545-8E9E-441F-AE5E-2A43A7D89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8C61-0B58-40CD-9885-0660CA5C44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B12A-0408-4C32-AC4A-A28B77BC35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FEDE-7388-4AE0-9E61-5E0FCFBF5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803D-966A-4B4D-83C0-848E14277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E5BD-A439-4AAA-8365-4110B2E5C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19C9-1E87-4D99-93E8-0A141379F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7416-A6E6-45C6-8DB2-D67CBEB66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5576-24D4-404C-AEA2-76024500C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4937-1CF2-49E0-A742-2D7E3DED6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-</a:t>
            </a:r>
            <a:fld id="{F075A873-44B0-437F-A859-74EB3C82DED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1680" y="44604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85440" y="632412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simple/9/9c/Microsoft_Windows_logo.gif&amp;imgrefurl=http://simple.wikipedia.org/wiki/Microsoft_Windows&amp;h=196&amp;w=287&amp;sz=12&amp;tbnid=eynSai-BDnQJ:&amp;tbnh=75&amp;tbnw=110&amp;prev=/images%3Fq%3Dwindows%2Blogo%26hl%3Den%26lr%3D&amp;oi=imagesr&amp;start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kevcom.com/images/linux/linux.logo.2yp.jpg&amp;imgrefurl=http://www.kevcom.com/images/linux/&amp;h=220&amp;w=170&amp;sz=29&amp;tbnid=-dEjG3JAHxi0kM:&amp;tbnh=102&amp;tbnw=78&amp;hl=en&amp;start=5&amp;prev=/images%3Fq%3Dlinux%2Blogo%26svnum%3D10%26hl%3Den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xisp.hellug.gr/sun-logo.gif&amp;imgrefurl=http://xisp.hellug.gr/&amp;h=80&amp;w=104&amp;sz=3&amp;tbnid=Ht_EpwDpIVz4zM:&amp;tbnh=60&amp;tbnw=79&amp;hl=en&amp;start=2&amp;prev=/images%3Fq%3Dsunos%2Blogo%26svnum%3D10%26hl%3Den%26lr%3D%26rls%3DGGLJ,GGLJ:2006-10,GGLJ: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beta2.savvy.net/uploads/logo_ibm-aix-server.gif&amp;imgrefurl=http://www.savvy.net/detail.asp%3Fcategory_id%3D5%26article_id%3D82&amp;h=67&amp;w=81&amp;sz=2&amp;tbnid=H0BRP9aFH3GEiM:&amp;tbnh=58&amp;tbnw=71&amp;hl=en&amp;start=9&amp;prev=/images%3Fq%3Dibm%2Baix%2Blogo%26svnum%3D10%26hl%3Den%26lr%3D%26rls%3DGGLJ,GGLJ:2006-10,GGLJ:en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resnet.ramapo.edu/images/macos9_logo.gif&amp;imgrefurl=http://resnet.ramapo.edu/config_mac.php&amp;h=181&amp;w=198&amp;sz=4&amp;tbnid=GWkzr4n6KP6IwM:&amp;tbnh=90&amp;tbnw=99&amp;hl=en&amp;start=5&amp;prev=/images%3Fq%3Dmacos%2Blogo%26svnum%3D10%26hl%3Den%26lr%3D%26rls%3DGGLJ,GGLJ:2006-10,GGLJ:en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blog.tilos.hu/speedlight/2003/04/pdas.jpg&amp;imgrefurl=http://blog.tilos.hu/speedlight/archives/2003_04.html&amp;h=257&amp;w=400&amp;sz=19&amp;tbnid=5j3ifRdnCa4ZiM:&amp;tbnh=77&amp;tbnw=120&amp;hl=en&amp;start=11&amp;prev=/images%3Fq%3Dwindows%2Bce%2B%26svnum%3D10%26hl%3Den%26lr%3D%26rls%3DGGLJ,GGLJ:2006-10,GGLJ:en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images.google.com/imgres?imgurl=http://www.windowsfordevices.com/files/microsoft/ms-logo.jpg&amp;imgrefurl=http://www.windowsfordevices.com/sponsors/SP7571057230.html&amp;h=150&amp;w=200&amp;sz=7&amp;tbnid=mUnN4yHKyJO-8M:&amp;tbnh=74&amp;tbnw=99&amp;hl=en&amp;start=1&amp;prev=/images%3Fq%3Dwindows%2Bce%2Blogo%26svnum%3D10%26hl%3Den%26lr%3D%26rls%3DGGLJ,GGLJ:2006-10,GGLJ:en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images.google.com/imgres?imgurl=http://www.visualwebsolutions.net/images/server-01.png&amp;imgrefurl=http://www.visualwebsolutions.net/images/&amp;h=279&amp;w=200&amp;sz=74&amp;tbnid=FJGj23ZEMsjwxM:&amp;tbnh=109&amp;tbnw=78&amp;hl=en&amp;start=1&amp;prev=/images%3Fq%3Dserver%26svnum%3D10%26hl%3Den%26lr%3D%26rls%3DGGLJ,GGLJ:2006-10,GGLJ:en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images.google.com/imgres?imgurl=http://www.cs.wisc.edu/~nejedlo/gif/cluster.jpg&amp;imgrefurl=http://www.cs.wisc.edu/condor/cluster/&amp;h=864&amp;w=1152&amp;sz=272&amp;tbnid=D1rf3_6W3drwyM:&amp;tbnh=112&amp;tbnw=150&amp;hl=en&amp;start=3&amp;prev=/images%3Fq%3Dcluster%26svnum%3D10%26hl%3Den%26lr%3D%26rls%3DGGLJ,GGLJ:2006-10,GGLJ:en" TargetMode="External"/><Relationship Id="rId18" Type="http://schemas.openxmlformats.org/officeDocument/2006/relationships/image" Target="../media/image15.jpeg"/><Relationship Id="rId19" Type="http://schemas.openxmlformats.org/officeDocument/2006/relationships/hyperlink" Target="http://images.google.com/imgres?imgurl=http://www.amigobc.com/logo_windows_net_server_2003.jpg&amp;imgrefurl=http://www.amigobc.com/clearance.htm&amp;h=320&amp;w=486&amp;sz=19&amp;tbnid=6G9ZokJ25FAU6M:&amp;tbnh=82&amp;tbnw=126&amp;hl=en&amp;start=3&amp;prev=/images%3Fq%3Dwindows%2Bserver%2Blogo%26svnum%3D10%26hl%3Den%26lr%3D%26sa%3DN" TargetMode="External"/><Relationship Id="rId20" Type="http://schemas.openxmlformats.org/officeDocument/2006/relationships/image" Target="../media/image16.jpeg"/><Relationship Id="rId21" Type="http://schemas.openxmlformats.org/officeDocument/2006/relationships/hyperlink" Target="http://images.google.com/imgres?imgurl=http://www.superwarehouse.com/images/products/apple_ibookg4v2.jpg&amp;imgrefurl=http://www.superwarehouse.com/Apple_iBook_G4_933MHz_Laptop/M9388LL_A/p/341876&amp;h=200&amp;w=220&amp;sz=16&amp;tbnid=c1uqLqvD1zGmhM:&amp;tbnh=92&amp;tbnw=102&amp;hl=en&amp;start=8&amp;prev=/images%3Fq%3Dmac%2Blaptop%26svnum%3D10%26hl%3Den%26lr%3D" TargetMode="External"/><Relationship Id="rId22" Type="http://schemas.openxmlformats.org/officeDocument/2006/relationships/image" Target="../media/image17.jpeg"/><Relationship Id="rId23" Type="http://schemas.openxmlformats.org/officeDocument/2006/relationships/hyperlink" Target="http://images.google.com/imgres?imgurl=http://www.connectedhomemedia.com/Articles/Images/toshiba_tabletpc.jpg&amp;imgrefurl=http://www.connectedhomemedia.com/Articles/Print.cfm%3FArticleID%3D45660%26Path%3DHomeOffice&amp;h=250&amp;w=250&amp;sz=16&amp;tbnid=jtGPo_ugOyvC-M:&amp;tbnh=106&amp;tbnw=106&amp;hl=en&amp;start=4&amp;prev=/images%3Fq%3Dtoshiba%2Bcomputer%26svnum%3D10%26hl%3Den%26lr%3D%26sa%3DG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images.google.com/imgres?imgurl=http://www.wince.com.br/images/treo700w.jpg&amp;imgrefurl=http://www.wince.com.br/cgi-bin/equipamentos/03.idc%3Fregistro%3D694&amp;h=373&amp;w=256&amp;sz=23&amp;tbnid=QCtdRf6HlpV2fM:&amp;tbnh=118&amp;tbnw=80&amp;hl=en&amp;start=14&amp;prev=/images%3Fq%3Dwindows%2Bembedded%2Bphone%26svnum%3D10%26hl%3Den%26lr%3D" TargetMode="External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jpeg"/><Relationship Id="rId2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9280" y="1344240"/>
            <a:ext cx="789120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ρχεία στη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γαστήριο 2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(Επανάληψη στο Σπίτι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δάσκω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ημήτρης Ζεϊναλιπού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3A62-AC2A-41B9-A019-B01FD59ACE4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*fopen(char *filename, char *mode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όνομα του αρχείου που επιθυμούμε να ανοίξουμ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είδος της πράξης (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, write, read-writ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in() { FILE *f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38680" y="48769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5638680"/>
            <a:ext cx="21333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5867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νο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4495680"/>
            <a:ext cx="332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ύπος Ανοίγ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(εδώ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8080" y="548604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58640" y="609588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141B-2D95-4418-9F79-37659E2015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73160"/>
          <a:ext cx="8229600" cy="4884840"/>
        </p:xfrm>
        <a:graphic>
          <a:graphicData uri="http://schemas.openxmlformats.org/drawingml/2006/table">
            <a:tbl>
              <a:tblPr/>
              <a:tblGrid>
                <a:gridCol w="1371600"/>
                <a:gridCol w="685800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ημασί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γραφ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y File: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Υποδηλώνουμε ότι πρόκειται να επεξεργαστούμε αρχείο με δυαδικά δεδομέν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80880" y="11430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H παράμετρος mode υποδεικνύει τον τρόπο με τον οποίο θέλουμε να προσπελάσουμ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93B5-F540-426C-AE45-ED544AE5BAA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Κλείσιμο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67652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los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fclose(FILE *fp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δεικνύει την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82F5-9F3A-4C2A-B51C-10654FC2944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ράψετε ένα απλό πρόγραμμα που προσθέτει την λέξ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Hello”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 ένα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ILE *fp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 = fopen("myfile.txt", "a"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νοιγ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rintf(fp, "Hello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κτύπωση σε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κλείσιμο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56272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ς δούμε τώρα τις εντολές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printf, fc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σε περισσότερο βάθ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29200" y="342864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E2A9-B289-402F-8E9F-1396D92E064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765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// Try to ope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Write to the 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Hello 5 6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fprintf(fp, "Hell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%d %d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5,6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95680" y="2362320"/>
            <a:ext cx="838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5238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ίδιο πρόγραμμα με συνθήκη έλεγχου που ελέγχει αν άνοιξ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038480"/>
            <a:ext cx="358128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.χ. Αν γέμισε ο δίσκος τότε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α αποτύχει, και ο χρήστης του προγράμματος μπορεί να ειδοποιηθεί με μήνυμα λάθ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05920" y="2286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3155-3A2A-47D4-8DD3-0BBF5E86845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676520"/>
            <a:ext cx="838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486400" y="1904760"/>
            <a:ext cx="685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4952880"/>
            <a:ext cx="35816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39A7-D022-401A-B58E-C58185C3F40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Εκτύπωση 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Εκτύπωσε τον αριθμ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4952880"/>
            <a:ext cx="327672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 από αρχείο και εκτύπωση του 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6150-118B-4F25-9DCE-FD519A6B6B7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 Εκτύπ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x 2 /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Κλείσιμ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733920"/>
            <a:ext cx="32763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δυο ακέραιων από αρχείο και εκτύπωση τους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B89A-843F-4268-96C0-9E0EA20C27A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47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άποιος σας δίδει ένα μεγάλο αρχείο αριθμών. Σας ζητά να βρείτε τον μέγιστο αριθμό στο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352680"/>
            <a:ext cx="6248520" cy="30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 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file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C53B-0EE2-45BF-8813-B263C372907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while (fscanf(fp, "%d", &amp;a) != EOF)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//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%d\n", 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f (a&gt;max) { max = a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f(“max:%d”, max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Print th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320F-6F0C-4937-9881-4DAF836A33E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324840" cy="4206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1752480" cy="55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1447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να αποθηκεύσουμε δεδομένα από ένα πρόγραμμα, πρέπει να χρησιμοποιήσουμε την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Δευτερεύουσα Μνήμ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594360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91120" y="56386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648320" y="4038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2209680"/>
            <a:ext cx="14475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22A1-AB8A-44C4-873E-C6EBA31EC96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σκησ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44792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i;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srand(time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"w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or (i=0;i&lt;10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rintf(fp, "%d\n", rand() % 1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5238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Τι ακριβώς κάνει το πιο κάτω πρόγραμμα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8F06-67F7-47E9-A23D-592AC5FA029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40320" y="1523880"/>
            <a:ext cx="3551400" cy="2343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1295280"/>
            <a:ext cx="5105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ιο συνηθισμένη μορφή δευτερεύουσας μνήμη η οποία αξιοποιείτε από ένα πρόγραμμα είναι ο Μαγνητικός Δίσκο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αγνητικός Δίσκο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ελείτε από ένα ή περισσότερους δίσκους με μαγνητική επικάλυψ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δεδομένα αποθηκεύονται σε τομείς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sector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δίσκοι διαθέτουν την δυνατότητα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ιριακή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λλά και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μεσ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όσβασης στα δεδομέν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42000" y="4068720"/>
            <a:ext cx="2716200" cy="187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05CB-529F-48F1-A01C-560F4B0D76B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α Λειτουργικά Συστήματα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Operating System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ttp://simple.wikipedia.org/wiki/Microsoft_Windo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5410080"/>
            <a:ext cx="1143000" cy="779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3733920"/>
            <a:ext cx="87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81080" y="5334120"/>
            <a:ext cx="1024200" cy="77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447920"/>
            <a:ext cx="8001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ιος Διαχειρίζεται τους Πόρους (Μνήμη, Δίσκο, Επεξεργαστή, κτλ) σε ένα Υπολογιστικό Σύστημα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Ο ΛΕΙΤΟΥΡΓΙΚΟ ΣΥΣΤΗ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5257800"/>
            <a:ext cx="105732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525780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3352680"/>
            <a:ext cx="1600200" cy="1027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467480" y="5410080"/>
            <a:ext cx="1067040" cy="797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10280" y="3276720"/>
            <a:ext cx="1981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990720" y="3809880"/>
            <a:ext cx="742680" cy="1038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905120" y="3809880"/>
            <a:ext cx="142848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276720"/>
            <a:ext cx="31240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200400" y="5334120"/>
            <a:ext cx="1200240" cy="780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9880" y="3276720"/>
            <a:ext cx="3124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867280" y="3429000"/>
            <a:ext cx="971640" cy="87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791320" y="434340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620120" y="4419720"/>
            <a:ext cx="56808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7"/>
          <a:stretch/>
        </p:blipFill>
        <p:spPr>
          <a:xfrm>
            <a:off x="4419720" y="3581280"/>
            <a:ext cx="1209600" cy="838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8"/>
          <a:stretch/>
        </p:blipFill>
        <p:spPr>
          <a:xfrm>
            <a:off x="4648320" y="464832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DB71-B8AE-4EFA-B4E9-67A472873C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Λειτουργικά Συστήματα και Συστήματα Διαχείρισης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άθε γλώσσα προγραμματισμού έχει κάποια βιβλιοθήκη η οποία προσφέρει λειτουργίες πρόσβασης σε αρχεία αποθηκευμένα σε μονάδες Δευτερεύουσας Μνήμ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, 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λειτουργίες αυτές προσφέρονται από την βιβλιοθήκ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Βιβλιοθήκη επικοινωνεί με το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υποσύστημα διαχείρισης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ρχείων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e System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λειτουργικού συστήματ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οποίο στην συνέχεια διεκπεραιώνει τις λειτουργίες που ζητά ο προγραμματιστή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yste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32, NT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τι περιέχουν εσωτερικά τα αρχεία (δηλαδή πως αποθηκεύουν τις πληροφορίες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3286-D5E6-43D5-862D-C6EF8E17A5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3880" y="1905120"/>
            <a:ext cx="60199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Θυμηθείτε ότι το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ρχεί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ναι μία ακολουθί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011000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00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10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ii:99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scii:97   ascii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χαρακτήρες αυτοί είναι αποθηκευμένοι σειριακά στο αρχείο και διαχωρίζονται με διάφορους ειδικούς χαρακτή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5486400"/>
            <a:ext cx="1676520" cy="914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5410080"/>
            <a:ext cx="28195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\nTest\thell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6483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όπως το βλέπει ο χρήστ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648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στην Πραγματ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2200" y="5791320"/>
            <a:ext cx="12952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έλος αρχεί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: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B290-9CA6-4AC1-B81F-C8329530A1B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2371680"/>
            <a:ext cx="6496200" cy="448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948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Πίνακ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κετοί χαρακτήρες είναι κρυμμένοι – δηλαδή δεν φαίνονται στην οθόνη και στα αρχε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3124080" cy="4648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1B01-0C1E-46F7-B08C-BD00686A54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Δυαδικά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 Αρχεία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3581280"/>
          <a:ext cx="701028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01028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144792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λ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όλα τα αρχεία περιέχουν Χαρακτήρε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πω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ναι κωδικοποιημένο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αρχείο εικόν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Graphics Interchange 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συγκεκριμένα τη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νωστή εικόνα το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στ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696080" y="2819520"/>
            <a:ext cx="1295640" cy="11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76920" y="2971800"/>
            <a:ext cx="2895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952880"/>
            <a:ext cx="7696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ο σχήμα δείχνει ότι οι εικόνες (όπως και ΌΛΑ τα αρχεία) είναι ουσιαστικά μια σειρά από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ytes</a:t>
            </a: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 (στο σχήμα κωδικοποιημένα στο δεκαεξαδικό σύστημα για να κερδίσουμε χώρ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60958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79D9-16F0-403E-8855-C8B715DBC0F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Εισαγωγή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στα Αρχεί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ώρα θα επικεντρωθούμε στις λειτουργίες εγγραφής και ανάγνωσης σε αρχεία της βιβλιοθήκ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 επεξεργασία  αρχείων γίνεται κατά τον ακόλουθο τρόπο: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)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σχετίζουμε μία οντότητ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η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ο αρχείο 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αρχείο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) Πραγματοποιούμε τις λειτουργίε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νάγνωσης και εγγραφής δεδομέν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Κλείνουμ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αρχεί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5E4E-43A3-43B5-80A9-B4B8C55ACB4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23:11:32Z</dcterms:created>
  <dc:creator>Demetris Zeinalipour</dc:creator>
  <dc:description/>
  <dc:language>en-US</dc:language>
  <cp:lastModifiedBy>DZ</cp:lastModifiedBy>
  <dcterms:modified xsi:type="dcterms:W3CDTF">2006-09-15T11:16:17Z</dcterms:modified>
  <cp:revision>133</cp:revision>
  <dc:subject/>
  <dc:title>EPL032 - File I/O</dc:title>
</cp:coreProperties>
</file>