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E4D7-681A-42DE-8C83-FD6E93AC2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A91F-5D8F-470A-B52A-0DC1CA2CC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F2A7-D01F-4742-980D-6599BD17D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E2B0-E513-43D8-A179-8DC1E392AD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ECBF-7C8B-433B-B7BC-02CDA270F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B3F2-09A9-44A6-9372-8DC78F7E2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2076-C6DC-497D-A1B1-82607F18C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91D5-3A13-420B-A6D4-4E5D4F5B3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D4E7-0F69-4A4B-A78E-D95638EBC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A61B-5111-46A6-8EAC-2AEC5428A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C6F2-8BDB-490B-BC2E-4E48BD398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E520-0B51-46B3-8F1F-907E383BE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8-</a:t>
            </a:r>
            <a:fld id="{4279875B-2F45-4169-B5C8-A27B1BD28557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We will move along the elements of A. For each new element we will compare the element with the current element of B. If they match, we will traverse A and B until we find a new element in A and a new element in B accordingly. If the elements are the same w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the previous step until the end of the lists. Else we report that the lists do not have the same set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above algorithm is O(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258E-FFD2-4BC6-A120-94B44F660AD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ine linearly all the elements a of A. For each element a, perform a binary search in the elements of B looking for an element b such that b=m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2(m,A,B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oreach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=binarysearch(m-a, 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f (found(b)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%d + %d = %d”, a,b,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element was not found in b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2ADA-2556-4069-A7C7-586442B251A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DZ</cp:lastModifiedBy>
  <dcterms:modified xsi:type="dcterms:W3CDTF">2006-10-29T07:24:04Z</dcterms:modified>
  <cp:revision>347</cp:revision>
  <dc:subject/>
  <dc:title>l</dc:title>
</cp:coreProperties>
</file>